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A14-76D3-495D-8BD3-261C46AF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A45-EFA1-4384-B378-487442BF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829-C9F0-4831-AC11-2A42B19E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A5C-9CBF-4D70-964F-44473924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161-4EF2-49E4-81ED-D57068FB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FEE-C080-4368-955D-97E87464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F6C-2CF8-4763-9762-24E4F5CC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7C9-75D4-42D3-B35D-D37A90FF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7A6-C0EF-492A-97BD-55F5CF42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9065-289D-4DC7-86E8-D75F0A25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72B-290D-4829-B229-22FB10A6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EDCC-3D9B-4242-902C-9DCB199F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C9D0-0AB6-42AE-B8EB-45CB23F37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Clase 7 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hca es el 16 de en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7627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continuamos el repaso para el examen de la unidad 2 del jue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ises hispano-hablante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uropa y Africa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s capit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91040" y="3276720"/>
            <a:ext cx="3013200" cy="338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3600" y="4952880"/>
            <a:ext cx="1225440" cy="1447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6934320" y="4952880"/>
            <a:ext cx="30456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5562720"/>
            <a:ext cx="533520" cy="1839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257800" y="2971800"/>
            <a:ext cx="1447920" cy="762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410080" y="5638680"/>
            <a:ext cx="5335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6324480" y="2286000"/>
            <a:ext cx="1371600" cy="1066680"/>
          </a:xfrm>
          <a:custGeom>
            <a:avLst/>
            <a:gdLst/>
            <a:ahLst/>
            <a:rect l="l" t="t" r="r" b="b"/>
            <a:pathLst>
              <a:path w="2428" h="2036">
                <a:moveTo>
                  <a:pt x="1216" y="96"/>
                </a:moveTo>
                <a:lnTo>
                  <a:pt x="1184" y="138"/>
                </a:lnTo>
                <a:lnTo>
                  <a:pt x="1127" y="128"/>
                </a:lnTo>
                <a:lnTo>
                  <a:pt x="1091" y="123"/>
                </a:lnTo>
                <a:lnTo>
                  <a:pt x="1078" y="100"/>
                </a:lnTo>
                <a:lnTo>
                  <a:pt x="1048" y="102"/>
                </a:lnTo>
                <a:lnTo>
                  <a:pt x="1040" y="84"/>
                </a:lnTo>
                <a:lnTo>
                  <a:pt x="1002" y="104"/>
                </a:lnTo>
                <a:lnTo>
                  <a:pt x="953" y="114"/>
                </a:lnTo>
                <a:lnTo>
                  <a:pt x="931" y="114"/>
                </a:lnTo>
                <a:lnTo>
                  <a:pt x="871" y="87"/>
                </a:lnTo>
                <a:lnTo>
                  <a:pt x="801" y="82"/>
                </a:lnTo>
                <a:lnTo>
                  <a:pt x="768" y="69"/>
                </a:lnTo>
                <a:lnTo>
                  <a:pt x="736" y="77"/>
                </a:lnTo>
                <a:lnTo>
                  <a:pt x="705" y="60"/>
                </a:lnTo>
                <a:lnTo>
                  <a:pt x="671" y="46"/>
                </a:lnTo>
                <a:lnTo>
                  <a:pt x="620" y="49"/>
                </a:lnTo>
                <a:lnTo>
                  <a:pt x="547" y="50"/>
                </a:lnTo>
                <a:lnTo>
                  <a:pt x="498" y="44"/>
                </a:lnTo>
                <a:lnTo>
                  <a:pt x="468" y="50"/>
                </a:lnTo>
                <a:lnTo>
                  <a:pt x="438" y="30"/>
                </a:lnTo>
                <a:lnTo>
                  <a:pt x="415" y="44"/>
                </a:lnTo>
                <a:lnTo>
                  <a:pt x="306" y="7"/>
                </a:lnTo>
                <a:lnTo>
                  <a:pt x="283" y="18"/>
                </a:lnTo>
                <a:lnTo>
                  <a:pt x="270" y="0"/>
                </a:lnTo>
                <a:lnTo>
                  <a:pt x="224" y="33"/>
                </a:lnTo>
                <a:lnTo>
                  <a:pt x="189" y="38"/>
                </a:lnTo>
                <a:lnTo>
                  <a:pt x="187" y="66"/>
                </a:lnTo>
                <a:lnTo>
                  <a:pt x="225" y="70"/>
                </a:lnTo>
                <a:lnTo>
                  <a:pt x="215" y="91"/>
                </a:lnTo>
                <a:lnTo>
                  <a:pt x="199" y="96"/>
                </a:lnTo>
                <a:lnTo>
                  <a:pt x="155" y="99"/>
                </a:lnTo>
                <a:lnTo>
                  <a:pt x="111" y="104"/>
                </a:lnTo>
                <a:lnTo>
                  <a:pt x="85" y="101"/>
                </a:lnTo>
                <a:lnTo>
                  <a:pt x="58" y="132"/>
                </a:lnTo>
                <a:lnTo>
                  <a:pt x="34" y="127"/>
                </a:lnTo>
                <a:lnTo>
                  <a:pt x="27" y="145"/>
                </a:lnTo>
                <a:lnTo>
                  <a:pt x="12" y="141"/>
                </a:lnTo>
                <a:lnTo>
                  <a:pt x="0" y="193"/>
                </a:lnTo>
                <a:lnTo>
                  <a:pt x="27" y="197"/>
                </a:lnTo>
                <a:lnTo>
                  <a:pt x="29" y="229"/>
                </a:lnTo>
                <a:lnTo>
                  <a:pt x="60" y="222"/>
                </a:lnTo>
                <a:lnTo>
                  <a:pt x="85" y="215"/>
                </a:lnTo>
                <a:lnTo>
                  <a:pt x="73" y="236"/>
                </a:lnTo>
                <a:lnTo>
                  <a:pt x="70" y="247"/>
                </a:lnTo>
                <a:lnTo>
                  <a:pt x="49" y="245"/>
                </a:lnTo>
                <a:lnTo>
                  <a:pt x="37" y="278"/>
                </a:lnTo>
                <a:lnTo>
                  <a:pt x="45" y="301"/>
                </a:lnTo>
                <a:lnTo>
                  <a:pt x="65" y="280"/>
                </a:lnTo>
                <a:lnTo>
                  <a:pt x="60" y="265"/>
                </a:lnTo>
                <a:lnTo>
                  <a:pt x="83" y="258"/>
                </a:lnTo>
                <a:lnTo>
                  <a:pt x="106" y="260"/>
                </a:lnTo>
                <a:lnTo>
                  <a:pt x="111" y="276"/>
                </a:lnTo>
                <a:lnTo>
                  <a:pt x="93" y="280"/>
                </a:lnTo>
                <a:lnTo>
                  <a:pt x="78" y="317"/>
                </a:lnTo>
                <a:lnTo>
                  <a:pt x="85" y="365"/>
                </a:lnTo>
                <a:lnTo>
                  <a:pt x="98" y="354"/>
                </a:lnTo>
                <a:lnTo>
                  <a:pt x="115" y="351"/>
                </a:lnTo>
                <a:lnTo>
                  <a:pt x="115" y="370"/>
                </a:lnTo>
                <a:lnTo>
                  <a:pt x="100" y="392"/>
                </a:lnTo>
                <a:lnTo>
                  <a:pt x="78" y="416"/>
                </a:lnTo>
                <a:lnTo>
                  <a:pt x="79" y="437"/>
                </a:lnTo>
                <a:lnTo>
                  <a:pt x="131" y="408"/>
                </a:lnTo>
                <a:lnTo>
                  <a:pt x="168" y="418"/>
                </a:lnTo>
                <a:lnTo>
                  <a:pt x="192" y="413"/>
                </a:lnTo>
                <a:lnTo>
                  <a:pt x="203" y="446"/>
                </a:lnTo>
                <a:lnTo>
                  <a:pt x="182" y="453"/>
                </a:lnTo>
                <a:lnTo>
                  <a:pt x="184" y="480"/>
                </a:lnTo>
                <a:lnTo>
                  <a:pt x="218" y="463"/>
                </a:lnTo>
                <a:lnTo>
                  <a:pt x="223" y="481"/>
                </a:lnTo>
                <a:lnTo>
                  <a:pt x="255" y="480"/>
                </a:lnTo>
                <a:lnTo>
                  <a:pt x="257" y="466"/>
                </a:lnTo>
                <a:lnTo>
                  <a:pt x="272" y="473"/>
                </a:lnTo>
                <a:lnTo>
                  <a:pt x="286" y="500"/>
                </a:lnTo>
                <a:lnTo>
                  <a:pt x="306" y="483"/>
                </a:lnTo>
                <a:lnTo>
                  <a:pt x="331" y="494"/>
                </a:lnTo>
                <a:lnTo>
                  <a:pt x="349" y="489"/>
                </a:lnTo>
                <a:lnTo>
                  <a:pt x="369" y="486"/>
                </a:lnTo>
                <a:lnTo>
                  <a:pt x="387" y="459"/>
                </a:lnTo>
                <a:lnTo>
                  <a:pt x="418" y="460"/>
                </a:lnTo>
                <a:lnTo>
                  <a:pt x="440" y="456"/>
                </a:lnTo>
                <a:lnTo>
                  <a:pt x="465" y="466"/>
                </a:lnTo>
                <a:lnTo>
                  <a:pt x="493" y="486"/>
                </a:lnTo>
                <a:lnTo>
                  <a:pt x="492" y="513"/>
                </a:lnTo>
                <a:lnTo>
                  <a:pt x="503" y="546"/>
                </a:lnTo>
                <a:lnTo>
                  <a:pt x="521" y="550"/>
                </a:lnTo>
                <a:lnTo>
                  <a:pt x="532" y="548"/>
                </a:lnTo>
                <a:lnTo>
                  <a:pt x="547" y="561"/>
                </a:lnTo>
                <a:lnTo>
                  <a:pt x="547" y="594"/>
                </a:lnTo>
                <a:lnTo>
                  <a:pt x="528" y="661"/>
                </a:lnTo>
                <a:lnTo>
                  <a:pt x="494" y="672"/>
                </a:lnTo>
                <a:lnTo>
                  <a:pt x="477" y="654"/>
                </a:lnTo>
                <a:lnTo>
                  <a:pt x="453" y="668"/>
                </a:lnTo>
                <a:lnTo>
                  <a:pt x="451" y="690"/>
                </a:lnTo>
                <a:lnTo>
                  <a:pt x="431" y="740"/>
                </a:lnTo>
                <a:lnTo>
                  <a:pt x="445" y="798"/>
                </a:lnTo>
                <a:lnTo>
                  <a:pt x="438" y="839"/>
                </a:lnTo>
                <a:lnTo>
                  <a:pt x="428" y="900"/>
                </a:lnTo>
                <a:lnTo>
                  <a:pt x="405" y="905"/>
                </a:lnTo>
                <a:lnTo>
                  <a:pt x="392" y="919"/>
                </a:lnTo>
                <a:lnTo>
                  <a:pt x="387" y="933"/>
                </a:lnTo>
                <a:lnTo>
                  <a:pt x="405" y="951"/>
                </a:lnTo>
                <a:lnTo>
                  <a:pt x="413" y="980"/>
                </a:lnTo>
                <a:lnTo>
                  <a:pt x="407" y="1004"/>
                </a:lnTo>
                <a:lnTo>
                  <a:pt x="385" y="1039"/>
                </a:lnTo>
                <a:lnTo>
                  <a:pt x="381" y="1073"/>
                </a:lnTo>
                <a:lnTo>
                  <a:pt x="352" y="1093"/>
                </a:lnTo>
                <a:lnTo>
                  <a:pt x="316" y="1097"/>
                </a:lnTo>
                <a:lnTo>
                  <a:pt x="311" y="1079"/>
                </a:lnTo>
                <a:lnTo>
                  <a:pt x="292" y="1071"/>
                </a:lnTo>
                <a:lnTo>
                  <a:pt x="286" y="1099"/>
                </a:lnTo>
                <a:lnTo>
                  <a:pt x="315" y="1169"/>
                </a:lnTo>
                <a:lnTo>
                  <a:pt x="350" y="1191"/>
                </a:lnTo>
                <a:lnTo>
                  <a:pt x="390" y="1221"/>
                </a:lnTo>
                <a:lnTo>
                  <a:pt x="385" y="1254"/>
                </a:lnTo>
                <a:lnTo>
                  <a:pt x="350" y="1268"/>
                </a:lnTo>
                <a:lnTo>
                  <a:pt x="344" y="1305"/>
                </a:lnTo>
                <a:lnTo>
                  <a:pt x="311" y="1310"/>
                </a:lnTo>
                <a:lnTo>
                  <a:pt x="311" y="1356"/>
                </a:lnTo>
                <a:lnTo>
                  <a:pt x="300" y="1379"/>
                </a:lnTo>
                <a:lnTo>
                  <a:pt x="355" y="1453"/>
                </a:lnTo>
                <a:lnTo>
                  <a:pt x="381" y="1478"/>
                </a:lnTo>
                <a:lnTo>
                  <a:pt x="370" y="1502"/>
                </a:lnTo>
                <a:lnTo>
                  <a:pt x="339" y="1508"/>
                </a:lnTo>
                <a:lnTo>
                  <a:pt x="309" y="1506"/>
                </a:lnTo>
                <a:lnTo>
                  <a:pt x="299" y="1535"/>
                </a:lnTo>
                <a:lnTo>
                  <a:pt x="270" y="1595"/>
                </a:lnTo>
                <a:lnTo>
                  <a:pt x="247" y="1642"/>
                </a:lnTo>
                <a:lnTo>
                  <a:pt x="269" y="1671"/>
                </a:lnTo>
                <a:lnTo>
                  <a:pt x="269" y="1710"/>
                </a:lnTo>
                <a:lnTo>
                  <a:pt x="311" y="1708"/>
                </a:lnTo>
                <a:lnTo>
                  <a:pt x="316" y="1716"/>
                </a:lnTo>
                <a:lnTo>
                  <a:pt x="355" y="1727"/>
                </a:lnTo>
                <a:lnTo>
                  <a:pt x="372" y="1716"/>
                </a:lnTo>
                <a:lnTo>
                  <a:pt x="396" y="1716"/>
                </a:lnTo>
                <a:lnTo>
                  <a:pt x="392" y="1753"/>
                </a:lnTo>
                <a:lnTo>
                  <a:pt x="428" y="1769"/>
                </a:lnTo>
                <a:lnTo>
                  <a:pt x="448" y="1785"/>
                </a:lnTo>
                <a:lnTo>
                  <a:pt x="477" y="1801"/>
                </a:lnTo>
                <a:lnTo>
                  <a:pt x="484" y="1814"/>
                </a:lnTo>
                <a:lnTo>
                  <a:pt x="464" y="1852"/>
                </a:lnTo>
                <a:lnTo>
                  <a:pt x="473" y="1866"/>
                </a:lnTo>
                <a:lnTo>
                  <a:pt x="510" y="1895"/>
                </a:lnTo>
                <a:lnTo>
                  <a:pt x="515" y="1921"/>
                </a:lnTo>
                <a:lnTo>
                  <a:pt x="528" y="1947"/>
                </a:lnTo>
                <a:lnTo>
                  <a:pt x="548" y="1982"/>
                </a:lnTo>
                <a:lnTo>
                  <a:pt x="582" y="2011"/>
                </a:lnTo>
                <a:lnTo>
                  <a:pt x="612" y="2034"/>
                </a:lnTo>
                <a:lnTo>
                  <a:pt x="641" y="2036"/>
                </a:lnTo>
                <a:lnTo>
                  <a:pt x="677" y="2033"/>
                </a:lnTo>
                <a:lnTo>
                  <a:pt x="693" y="2009"/>
                </a:lnTo>
                <a:lnTo>
                  <a:pt x="729" y="1943"/>
                </a:lnTo>
                <a:lnTo>
                  <a:pt x="790" y="1923"/>
                </a:lnTo>
                <a:lnTo>
                  <a:pt x="858" y="1918"/>
                </a:lnTo>
                <a:lnTo>
                  <a:pt x="906" y="1887"/>
                </a:lnTo>
                <a:lnTo>
                  <a:pt x="939" y="1885"/>
                </a:lnTo>
                <a:lnTo>
                  <a:pt x="960" y="1866"/>
                </a:lnTo>
                <a:lnTo>
                  <a:pt x="985" y="1866"/>
                </a:lnTo>
                <a:lnTo>
                  <a:pt x="1034" y="1877"/>
                </a:lnTo>
                <a:lnTo>
                  <a:pt x="1072" y="1870"/>
                </a:lnTo>
                <a:lnTo>
                  <a:pt x="1099" y="1885"/>
                </a:lnTo>
                <a:lnTo>
                  <a:pt x="1132" y="1875"/>
                </a:lnTo>
                <a:lnTo>
                  <a:pt x="1219" y="1875"/>
                </a:lnTo>
                <a:lnTo>
                  <a:pt x="1249" y="1885"/>
                </a:lnTo>
                <a:lnTo>
                  <a:pt x="1307" y="1844"/>
                </a:lnTo>
                <a:lnTo>
                  <a:pt x="1333" y="1826"/>
                </a:lnTo>
                <a:lnTo>
                  <a:pt x="1345" y="1846"/>
                </a:lnTo>
                <a:lnTo>
                  <a:pt x="1385" y="1857"/>
                </a:lnTo>
                <a:lnTo>
                  <a:pt x="1405" y="1848"/>
                </a:lnTo>
                <a:lnTo>
                  <a:pt x="1416" y="1814"/>
                </a:lnTo>
                <a:lnTo>
                  <a:pt x="1434" y="1801"/>
                </a:lnTo>
                <a:lnTo>
                  <a:pt x="1449" y="1769"/>
                </a:lnTo>
                <a:lnTo>
                  <a:pt x="1470" y="1706"/>
                </a:lnTo>
                <a:lnTo>
                  <a:pt x="1494" y="1709"/>
                </a:lnTo>
                <a:lnTo>
                  <a:pt x="1559" y="1665"/>
                </a:lnTo>
                <a:lnTo>
                  <a:pt x="1613" y="1639"/>
                </a:lnTo>
                <a:lnTo>
                  <a:pt x="1639" y="1649"/>
                </a:lnTo>
                <a:lnTo>
                  <a:pt x="1670" y="1655"/>
                </a:lnTo>
                <a:lnTo>
                  <a:pt x="1698" y="1621"/>
                </a:lnTo>
                <a:lnTo>
                  <a:pt x="1685" y="1610"/>
                </a:lnTo>
                <a:lnTo>
                  <a:pt x="1691" y="1552"/>
                </a:lnTo>
                <a:lnTo>
                  <a:pt x="1706" y="1521"/>
                </a:lnTo>
                <a:lnTo>
                  <a:pt x="1715" y="1483"/>
                </a:lnTo>
                <a:lnTo>
                  <a:pt x="1737" y="1457"/>
                </a:lnTo>
                <a:lnTo>
                  <a:pt x="1737" y="1435"/>
                </a:lnTo>
                <a:lnTo>
                  <a:pt x="1765" y="1437"/>
                </a:lnTo>
                <a:lnTo>
                  <a:pt x="1767" y="1399"/>
                </a:lnTo>
                <a:lnTo>
                  <a:pt x="1827" y="1377"/>
                </a:lnTo>
                <a:lnTo>
                  <a:pt x="1845" y="1349"/>
                </a:lnTo>
                <a:lnTo>
                  <a:pt x="1865" y="1353"/>
                </a:lnTo>
                <a:lnTo>
                  <a:pt x="1885" y="1325"/>
                </a:lnTo>
                <a:lnTo>
                  <a:pt x="1854" y="1289"/>
                </a:lnTo>
                <a:lnTo>
                  <a:pt x="1829" y="1283"/>
                </a:lnTo>
                <a:lnTo>
                  <a:pt x="1809" y="1273"/>
                </a:lnTo>
                <a:lnTo>
                  <a:pt x="1777" y="1230"/>
                </a:lnTo>
                <a:lnTo>
                  <a:pt x="1759" y="1171"/>
                </a:lnTo>
                <a:lnTo>
                  <a:pt x="1750" y="1131"/>
                </a:lnTo>
                <a:lnTo>
                  <a:pt x="1775" y="1080"/>
                </a:lnTo>
                <a:lnTo>
                  <a:pt x="1823" y="989"/>
                </a:lnTo>
                <a:lnTo>
                  <a:pt x="1868" y="908"/>
                </a:lnTo>
                <a:lnTo>
                  <a:pt x="1883" y="901"/>
                </a:lnTo>
                <a:lnTo>
                  <a:pt x="1903" y="866"/>
                </a:lnTo>
                <a:lnTo>
                  <a:pt x="1917" y="827"/>
                </a:lnTo>
                <a:lnTo>
                  <a:pt x="1934" y="830"/>
                </a:lnTo>
                <a:lnTo>
                  <a:pt x="1972" y="807"/>
                </a:lnTo>
                <a:lnTo>
                  <a:pt x="1972" y="789"/>
                </a:lnTo>
                <a:lnTo>
                  <a:pt x="1944" y="787"/>
                </a:lnTo>
                <a:lnTo>
                  <a:pt x="1946" y="769"/>
                </a:lnTo>
                <a:lnTo>
                  <a:pt x="1968" y="751"/>
                </a:lnTo>
                <a:lnTo>
                  <a:pt x="1977" y="715"/>
                </a:lnTo>
                <a:lnTo>
                  <a:pt x="2018" y="700"/>
                </a:lnTo>
                <a:lnTo>
                  <a:pt x="2072" y="684"/>
                </a:lnTo>
                <a:lnTo>
                  <a:pt x="2115" y="677"/>
                </a:lnTo>
                <a:lnTo>
                  <a:pt x="2134" y="650"/>
                </a:lnTo>
                <a:lnTo>
                  <a:pt x="2171" y="627"/>
                </a:lnTo>
                <a:lnTo>
                  <a:pt x="2222" y="633"/>
                </a:lnTo>
                <a:lnTo>
                  <a:pt x="2222" y="612"/>
                </a:lnTo>
                <a:lnTo>
                  <a:pt x="2263" y="569"/>
                </a:lnTo>
                <a:lnTo>
                  <a:pt x="2288" y="549"/>
                </a:lnTo>
                <a:lnTo>
                  <a:pt x="2336" y="518"/>
                </a:lnTo>
                <a:lnTo>
                  <a:pt x="2364" y="521"/>
                </a:lnTo>
                <a:lnTo>
                  <a:pt x="2393" y="482"/>
                </a:lnTo>
                <a:lnTo>
                  <a:pt x="2397" y="443"/>
                </a:lnTo>
                <a:lnTo>
                  <a:pt x="2428" y="423"/>
                </a:lnTo>
                <a:lnTo>
                  <a:pt x="2415" y="393"/>
                </a:lnTo>
                <a:lnTo>
                  <a:pt x="2390" y="381"/>
                </a:lnTo>
                <a:lnTo>
                  <a:pt x="2397" y="355"/>
                </a:lnTo>
                <a:lnTo>
                  <a:pt x="2417" y="345"/>
                </a:lnTo>
                <a:lnTo>
                  <a:pt x="2399" y="328"/>
                </a:lnTo>
                <a:lnTo>
                  <a:pt x="2377" y="320"/>
                </a:lnTo>
                <a:lnTo>
                  <a:pt x="2327" y="314"/>
                </a:lnTo>
                <a:lnTo>
                  <a:pt x="2312" y="327"/>
                </a:lnTo>
                <a:lnTo>
                  <a:pt x="2296" y="352"/>
                </a:lnTo>
                <a:lnTo>
                  <a:pt x="2268" y="355"/>
                </a:lnTo>
                <a:lnTo>
                  <a:pt x="2240" y="347"/>
                </a:lnTo>
                <a:lnTo>
                  <a:pt x="2154" y="347"/>
                </a:lnTo>
                <a:lnTo>
                  <a:pt x="2138" y="325"/>
                </a:lnTo>
                <a:lnTo>
                  <a:pt x="2090" y="352"/>
                </a:lnTo>
                <a:lnTo>
                  <a:pt x="2048" y="357"/>
                </a:lnTo>
                <a:lnTo>
                  <a:pt x="2048" y="347"/>
                </a:lnTo>
                <a:lnTo>
                  <a:pt x="2070" y="297"/>
                </a:lnTo>
                <a:lnTo>
                  <a:pt x="2009" y="269"/>
                </a:lnTo>
                <a:lnTo>
                  <a:pt x="1959" y="263"/>
                </a:lnTo>
                <a:lnTo>
                  <a:pt x="1946" y="245"/>
                </a:lnTo>
                <a:lnTo>
                  <a:pt x="1900" y="248"/>
                </a:lnTo>
                <a:lnTo>
                  <a:pt x="1895" y="286"/>
                </a:lnTo>
                <a:lnTo>
                  <a:pt x="1860" y="286"/>
                </a:lnTo>
                <a:lnTo>
                  <a:pt x="1741" y="284"/>
                </a:lnTo>
                <a:lnTo>
                  <a:pt x="1755" y="262"/>
                </a:lnTo>
                <a:lnTo>
                  <a:pt x="1732" y="248"/>
                </a:lnTo>
                <a:lnTo>
                  <a:pt x="1706" y="259"/>
                </a:lnTo>
                <a:lnTo>
                  <a:pt x="1657" y="260"/>
                </a:lnTo>
                <a:lnTo>
                  <a:pt x="1647" y="228"/>
                </a:lnTo>
                <a:lnTo>
                  <a:pt x="1637" y="198"/>
                </a:lnTo>
                <a:lnTo>
                  <a:pt x="1604" y="213"/>
                </a:lnTo>
                <a:lnTo>
                  <a:pt x="1572" y="213"/>
                </a:lnTo>
                <a:lnTo>
                  <a:pt x="1576" y="192"/>
                </a:lnTo>
                <a:lnTo>
                  <a:pt x="1542" y="185"/>
                </a:lnTo>
                <a:lnTo>
                  <a:pt x="1518" y="192"/>
                </a:lnTo>
                <a:lnTo>
                  <a:pt x="1496" y="189"/>
                </a:lnTo>
                <a:lnTo>
                  <a:pt x="1496" y="141"/>
                </a:lnTo>
                <a:lnTo>
                  <a:pt x="1463" y="153"/>
                </a:lnTo>
                <a:lnTo>
                  <a:pt x="1461" y="132"/>
                </a:lnTo>
                <a:lnTo>
                  <a:pt x="1435" y="120"/>
                </a:lnTo>
                <a:lnTo>
                  <a:pt x="1422" y="131"/>
                </a:lnTo>
                <a:lnTo>
                  <a:pt x="1387" y="132"/>
                </a:lnTo>
                <a:lnTo>
                  <a:pt x="1369" y="138"/>
                </a:lnTo>
                <a:lnTo>
                  <a:pt x="1323" y="138"/>
                </a:lnTo>
                <a:lnTo>
                  <a:pt x="1277" y="120"/>
                </a:lnTo>
                <a:lnTo>
                  <a:pt x="1270" y="108"/>
                </a:lnTo>
                <a:lnTo>
                  <a:pt x="1237" y="114"/>
                </a:lnTo>
                <a:lnTo>
                  <a:pt x="1216" y="96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3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a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00400" y="2371680"/>
            <a:ext cx="5943600" cy="3724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9712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91040" y="47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50292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9960" y="4800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0052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3160" y="5486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81760" y="571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30840" y="3733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78760" y="4191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2960" y="449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meric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paso de Americ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60" y="76176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39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/Capital/Nacio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800" indent="-39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-39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-39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-39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-39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-39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-39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-39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-39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-39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33920" y="1035000"/>
            <a:ext cx="5410080" cy="3003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88040" y="3733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5440" y="3505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71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4520" y="2971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9960" y="2895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0640" y="1828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83120" y="21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78760" y="2362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59280" y="2514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 los paises y capitales de Sur Americ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267080" y="2138400"/>
            <a:ext cx="3857760" cy="4719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5486400" y="236196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5760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048120" y="36576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7242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60199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525780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724280"/>
            <a:ext cx="1218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91320" y="41148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2209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4648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9718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4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62485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3962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3657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5909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5334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9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merica del s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5:19:49Z</dcterms:created>
  <dc:creator>Helen Zumaeta</dc:creator>
  <dc:description/>
  <dc:language>en-US</dc:language>
  <cp:lastModifiedBy>Helen Zumaeta</cp:lastModifiedBy>
  <dcterms:modified xsi:type="dcterms:W3CDTF">2013-01-22T18:45:27Z</dcterms:modified>
  <cp:revision>3</cp:revision>
  <dc:subject/>
  <dc:title>Me llamo ___________   Clase 7 il La fehca es el 16 de enero del 2013</dc:title>
</cp:coreProperties>
</file>